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3EE-555B-43D6-8805-4F52D2E6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AB1-B2B3-47E1-9686-A1BCD6F8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30F-897C-4EB8-8656-440744E1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192-B1DC-4A75-906B-3D889F4F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F680-57A8-4612-83D7-EEA20CE1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8440-01EF-4B62-AEF2-9D9376AF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DA02-A98D-41FE-B76F-AE8495EE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060B-47D8-4ED2-9FB2-DA0AC01D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D239-0013-4015-BD2E-AD272F97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BD61-494C-4B8E-AAD9-9BDCC9A4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F964-03B4-4B54-9A93-189FCD49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D3F-F24A-41EA-AC79-F57943C4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747A-2B90-48F6-912D-E19C6E9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0F37-86F2-444E-8E57-CE2702A3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EADA-AFA9-4677-BA24-D2D5208E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AB2C-10FC-4582-A107-254749BF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C9F4-9EE8-4819-9C02-A2868B13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CD0-4A27-4F18-BE66-BF8A6DCA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943-6CC4-442A-9947-A9CACBBC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EEC-E66E-4213-AD41-76075A5C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4C9-0A95-4004-AA7F-733F3BD8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FBA-CD39-4B8F-B737-189040BC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1D3-6259-46BC-A092-8ACDBB31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314-77E0-495F-A1C8-DEC3C114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9285-3033-40A0-A177-AA98BD1A16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E289-9558-4273-ACBC-2C182752F4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Димитър Пешев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1894 – 197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32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- Спасителят на българските евре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DimiterPeshevHouseM3"/>
          <p:cNvPicPr/>
          <p:nvPr/>
        </p:nvPicPr>
        <p:blipFill>
          <a:blip r:embed="rId1"/>
          <a:stretch/>
        </p:blipFill>
        <p:spPr>
          <a:xfrm>
            <a:off x="468360" y="2133720"/>
            <a:ext cx="273672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Dimitar Peshev.jpg"/>
          <p:cNvPicPr/>
          <p:nvPr/>
        </p:nvPicPr>
        <p:blipFill>
          <a:blip r:embed="rId1"/>
          <a:stretch/>
        </p:blipFill>
        <p:spPr>
          <a:xfrm>
            <a:off x="250920" y="476280"/>
            <a:ext cx="3682800" cy="5400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140360" y="907920"/>
            <a:ext cx="476244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късния следобед н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 март 194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митър Пешев влетява в кабинета на  Министъра на вътрешните рабо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ед бурен скандал,  министърът  издава заповед  извозването  на евреите да бъде  отложено.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0 март 1943 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ицейската акция за арестуването на евреи е спря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335880" y="544500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61616"/>
                </a:solidFill>
                <a:latin typeface="Arial"/>
              </a:rPr>
              <a:t>Димитър Пе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4"/>
          <p:cNvSpPr/>
          <p:nvPr/>
        </p:nvSpPr>
        <p:spPr>
          <a:xfrm>
            <a:off x="179280" y="476280"/>
            <a:ext cx="36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ешев смята, че това не е достатъчно и затова, на 17 март подготвя подписка срещу случващото се, която е подкрепена от  още 42 депута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тестът е внесен за обсъждане в Парламента на 26 март, въпреки че министър-председателят Богдан Филов настоява Пешев да се откаж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067280" y="3357720"/>
            <a:ext cx="50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7" descr="2319864429.jpg"/>
          <p:cNvPicPr/>
          <p:nvPr/>
        </p:nvPicPr>
        <p:blipFill>
          <a:blip r:embed="rId1"/>
          <a:stretch/>
        </p:blipFill>
        <p:spPr>
          <a:xfrm>
            <a:off x="4572000" y="115920"/>
            <a:ext cx="42642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24000" y="3933720"/>
            <a:ext cx="835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ради това, на 26 март  1943 г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митър Пешев  е свален от поста с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о безпрецедентният факт, че Парламентът дискути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айните планове на правителството  за депортацията на българските евреи,  допринася за тяхното осуетяв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nsfilov - Копие.jpg"/>
          <p:cNvPicPr/>
          <p:nvPr/>
        </p:nvPicPr>
        <p:blipFill>
          <a:blip r:embed="rId1"/>
          <a:stretch/>
        </p:blipFill>
        <p:spPr>
          <a:xfrm>
            <a:off x="1692360" y="260280"/>
            <a:ext cx="532764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50920" y="1341360"/>
            <a:ext cx="39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ързите и решителни действия на  42-та депутати, начело с подпредседателя на Народното събрание  Димитър Пешев, които се обявяват срещу случващото се, правят  тези действия  срещу евреите действията публично извест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Дим пеш 2"/>
          <p:cNvPicPr/>
          <p:nvPr/>
        </p:nvPicPr>
        <p:blipFill>
          <a:blip r:embed="rId1"/>
          <a:stretch/>
        </p:blipFill>
        <p:spPr>
          <a:xfrm>
            <a:off x="4284720" y="1628640"/>
            <a:ext cx="46800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6" descr="fpsbe.mitr.Stefan.jpg"/>
          <p:cNvPicPr/>
          <p:nvPr/>
        </p:nvPicPr>
        <p:blipFill>
          <a:blip r:embed="rId1"/>
          <a:stretch/>
        </p:blipFill>
        <p:spPr>
          <a:xfrm>
            <a:off x="0" y="0"/>
            <a:ext cx="3492360" cy="44067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3492360" y="189000"/>
            <a:ext cx="54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16 март е свикано извънредно заседание на Св. Синод на Българската православна църква. Митрополитите  изготвят  официално писмо до  премиера  Богдан Филов. В него те категорично изразяват възмущението си от намерението на правителството да депортира евреите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0" y="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Софийският митрополит Стеф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0" descr="митрополит Кирил - Копие.jpg"/>
          <p:cNvPicPr/>
          <p:nvPr/>
        </p:nvPicPr>
        <p:blipFill>
          <a:blip r:embed="rId2"/>
          <a:stretch/>
        </p:blipFill>
        <p:spPr>
          <a:xfrm>
            <a:off x="6300720" y="2852640"/>
            <a:ext cx="2249640" cy="37674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1"/>
          <p:cNvSpPr/>
          <p:nvPr/>
        </p:nvSpPr>
        <p:spPr>
          <a:xfrm>
            <a:off x="2432160" y="616572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ловдивският митрополит Кири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0" y="1507320"/>
            <a:ext cx="576108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ова обаче става възможно и благода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 солидарността на обикновените българ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 традиционната им толерантност към съседа  от друг етнос и религ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 24 май 1943 г., хиляди българи  излизат по улиците на  големите градове , не за да отбележат Деня на Светите братя Кирил и Методий, а в знак на протест срещу подготвяното от правителството  депортиране на българските евре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79280" y="26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зспорна е ролята на личности като  Димитър Пешев и митрополитите Стефан и Кирил за спасението на българските евре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aints Cyril and Methodius (2).jpg"/>
          <p:cNvPicPr/>
          <p:nvPr/>
        </p:nvPicPr>
        <p:blipFill>
          <a:blip r:embed="rId1"/>
          <a:stretch/>
        </p:blipFill>
        <p:spPr>
          <a:xfrm>
            <a:off x="5796000" y="1916280"/>
            <a:ext cx="30240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Adolf Hitler greets King Boris of Bulgaria on the occasion of the king's visit to Germany - Копие.jpg"/>
          <p:cNvPicPr/>
          <p:nvPr/>
        </p:nvPicPr>
        <p:blipFill>
          <a:blip r:embed="rId1"/>
          <a:stretch/>
        </p:blipFill>
        <p:spPr>
          <a:xfrm>
            <a:off x="179280" y="260280"/>
            <a:ext cx="3313080" cy="257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th_300 - Копие.jpg"/>
          <p:cNvPicPr/>
          <p:nvPr/>
        </p:nvPicPr>
        <p:blipFill>
          <a:blip r:embed="rId2"/>
          <a:stretch/>
        </p:blipFill>
        <p:spPr>
          <a:xfrm>
            <a:off x="6300720" y="2997360"/>
            <a:ext cx="2502000" cy="3498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3780000" y="1052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 14 август 1943 г., цар Борис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е среща с Хитлер. Българският цар отказва да предаде българските евре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 flipH="1">
            <a:off x="324000" y="371628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еите са изселени от големите градове в провинцията, но нито един евреин не е принуден да напусне странат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 1945 г. в България има 50 000 евреи  -  точно толкова колкото са били и преди Втората световна вой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side.gif"/>
          <p:cNvPicPr/>
          <p:nvPr/>
        </p:nvPicPr>
        <p:blipFill>
          <a:blip r:embed="rId1"/>
          <a:stretch/>
        </p:blipFill>
        <p:spPr>
          <a:xfrm>
            <a:off x="5867280" y="620640"/>
            <a:ext cx="2167200" cy="5227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68360" y="1844640"/>
            <a:ext cx="5111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митър Пеше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йто  съвсем заслужено е наречен “Спасителят на българските евреи”   умира   в Соф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 25 февруари  197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явен е за почетен гражданин на Кюстендил и Изра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лото на Димитър Пешев  – “Спасителят  на 50 000 български евреи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почетено с дърво на негово и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Гората на праведниците в Йерусал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the garden of Righteous - Копие.jpg"/>
          <p:cNvPicPr/>
          <p:nvPr/>
        </p:nvPicPr>
        <p:blipFill>
          <a:blip r:embed="rId1"/>
          <a:stretch/>
        </p:blipFill>
        <p:spPr>
          <a:xfrm>
            <a:off x="0" y="2276640"/>
            <a:ext cx="5075280" cy="3321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евр пам5"/>
          <p:cNvPicPr/>
          <p:nvPr/>
        </p:nvPicPr>
        <p:blipFill>
          <a:blip r:embed="rId2"/>
          <a:stretch/>
        </p:blipFill>
        <p:spPr>
          <a:xfrm>
            <a:off x="4788000" y="3716280"/>
            <a:ext cx="39607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25 януари 2000г. по инициатива на българската делегация в ПАС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градата на Съвета на Европа в Страсбург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ред с бюстовете на основателите на Обединена Евро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 поставен  бюст на Димитър Пешев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р от българското Народно събр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ОТКРИВАНЕ НА БЮСТА В СТРАСБУРГ-1"/>
          <p:cNvPicPr/>
          <p:nvPr/>
        </p:nvPicPr>
        <p:blipFill>
          <a:blip r:embed="rId1"/>
          <a:stretch/>
        </p:blipFill>
        <p:spPr>
          <a:xfrm>
            <a:off x="1332000" y="2997360"/>
            <a:ext cx="6703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468360" y="4941720"/>
            <a:ext cx="82803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митър Пешев е роден в Кюстендил на 25 юни 1894 г. Завършва право в Софийския университет “Св. Климент Охридски”. Работи като съдия, прокурор и адвокат в Пловдив и Соф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D:\Documents\PROJECTS     2010-12\ист. събития\JEWS\РОДНА КЪЩА В КЮСТЕНДИЛ.jpg"/>
          <p:cNvPicPr/>
          <p:nvPr/>
        </p:nvPicPr>
        <p:blipFill>
          <a:blip r:embed="rId1"/>
          <a:stretch/>
        </p:blipFill>
        <p:spPr>
          <a:xfrm>
            <a:off x="1332000" y="189000"/>
            <a:ext cx="5976720" cy="4481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3059280" y="189000"/>
            <a:ext cx="42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61616"/>
                </a:solidFill>
                <a:latin typeface="Arial"/>
              </a:rPr>
              <a:t>Родната къща на Димитър Пе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61616"/>
                </a:solidFill>
                <a:latin typeface="Arial"/>
              </a:rPr>
              <a:t>в гр. Кюстенд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179280" y="18900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Денят  на Холокоста  в България  е10 март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Това е денят  на спасяването на българските евре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менно на този ден,  през 1943 г., депортацията на български евреи е спря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 резултат от бързите и решителни действия на  Димитър Пеш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Паметник на спасението в Пловдив.JPG"/>
          <p:cNvPicPr/>
          <p:nvPr/>
        </p:nvPicPr>
        <p:blipFill>
          <a:blip r:embed="rId1"/>
          <a:stretch/>
        </p:blipFill>
        <p:spPr>
          <a:xfrm>
            <a:off x="1403280" y="1989000"/>
            <a:ext cx="6120000" cy="45910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1403280" y="558972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61616"/>
                </a:solidFill>
                <a:latin typeface="Arial"/>
              </a:rPr>
              <a:t>Паметникът на спасените български евреи в Пловди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книга3"/>
          <p:cNvPicPr/>
          <p:nvPr/>
        </p:nvPicPr>
        <p:blipFill>
          <a:blip r:embed="rId1"/>
          <a:stretch/>
        </p:blipFill>
        <p:spPr>
          <a:xfrm>
            <a:off x="395280" y="1484280"/>
            <a:ext cx="2925720" cy="446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вест2"/>
          <p:cNvPicPr/>
          <p:nvPr/>
        </p:nvPicPr>
        <p:blipFill>
          <a:blip r:embed="rId2"/>
          <a:stretch/>
        </p:blipFill>
        <p:spPr>
          <a:xfrm>
            <a:off x="6516720" y="3500280"/>
            <a:ext cx="2106720" cy="309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160px-Dimitar_Peshev"/>
          <p:cNvPicPr/>
          <p:nvPr/>
        </p:nvPicPr>
        <p:blipFill>
          <a:blip r:embed="rId3"/>
          <a:stretch/>
        </p:blipFill>
        <p:spPr>
          <a:xfrm>
            <a:off x="3780000" y="549360"/>
            <a:ext cx="2592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5"/>
          <p:cNvSpPr/>
          <p:nvPr/>
        </p:nvSpPr>
        <p:spPr>
          <a:xfrm>
            <a:off x="250920" y="4508640"/>
            <a:ext cx="87138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з 1935 г.  става  министър на правосъдие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кабинета на Георги Кьосеиван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т 1938 г. е заместник председател на 24-т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бикновено народно събрание, а от 1940 г. – на 25-то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бикновено народно събр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images"/>
          <p:cNvPicPr/>
          <p:nvPr/>
        </p:nvPicPr>
        <p:blipFill>
          <a:blip r:embed="rId1"/>
          <a:stretch/>
        </p:blipFill>
        <p:spPr>
          <a:xfrm>
            <a:off x="1403280" y="333360"/>
            <a:ext cx="6553440" cy="4159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23800" y="404640"/>
            <a:ext cx="37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61616"/>
                </a:solidFill>
                <a:latin typeface="Arial"/>
              </a:rPr>
              <a:t>Сградата на Народното събр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684360" y="189000"/>
            <a:ext cx="763272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з 1939 г. избухва Втората световна война, а през 1941 г. България става съюзник  на Германия. Хитлер започва да упражнява  все по-силен натиск върху българските власти за „окончателно решение на еврейския въпрос“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http://isurvived.org/Pictures_iSurvived-5/JewsArrested_BADEN-BADEN.GIF"/>
          <p:cNvPicPr/>
          <p:nvPr/>
        </p:nvPicPr>
        <p:blipFill>
          <a:blip r:embed="rId1"/>
          <a:stretch/>
        </p:blipFill>
        <p:spPr>
          <a:xfrm>
            <a:off x="1476360" y="2421000"/>
            <a:ext cx="59752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250920" y="54504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ще през декември 1940 годи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одното събрание приема Закон за защита на нация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йто поставя началото на държавно организиран тормо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преследване на евреите в Българ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http://www.zwoje-scrolls.com/shoah/n7.jpg"/>
          <p:cNvPicPr/>
          <p:nvPr/>
        </p:nvPicPr>
        <p:blipFill>
          <a:blip r:embed="rId1"/>
          <a:stretch/>
        </p:blipFill>
        <p:spPr>
          <a:xfrm>
            <a:off x="324000" y="3500280"/>
            <a:ext cx="4608360" cy="322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звезда"/>
          <p:cNvPicPr/>
          <p:nvPr/>
        </p:nvPicPr>
        <p:blipFill>
          <a:blip r:embed="rId2"/>
          <a:stretch/>
        </p:blipFill>
        <p:spPr>
          <a:xfrm>
            <a:off x="5940360" y="3933720"/>
            <a:ext cx="2828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24000" y="-1298880"/>
            <a:ext cx="835164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ешението за унищожаване на всички евреи на територията на Германия, на окупираните от нея територии и на териториите на съюзниците ѝ е взето от Хитлеристкото правителство в берлинското предградие Ванзее през 1942 г. Тогава започва масовото депортиране към Аушвиц (Освиенцим). Благодарение на местоположението си 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лизо до големи градове и на жп-връзки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ой става най-големият концентрационен лагер за евреи, цигани, пленници и партизани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лагер1"/>
          <p:cNvPicPr/>
          <p:nvPr/>
        </p:nvPicPr>
        <p:blipFill>
          <a:blip r:embed="rId1"/>
          <a:stretch/>
        </p:blipFill>
        <p:spPr>
          <a:xfrm>
            <a:off x="5724360" y="3457440"/>
            <a:ext cx="2189160" cy="3400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лагер2"/>
          <p:cNvPicPr/>
          <p:nvPr/>
        </p:nvPicPr>
        <p:blipFill>
          <a:blip r:embed="rId2"/>
          <a:stretch/>
        </p:blipFill>
        <p:spPr>
          <a:xfrm>
            <a:off x="395280" y="3789360"/>
            <a:ext cx="3889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50920" y="254520"/>
            <a:ext cx="88930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 22 февруари 1943 г. комисарят по еврейските въпроси в Бълга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лександър Бел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ключва договор с представителя на Гестапо у нас Теодор Данеке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поетапна депортация на българските евре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belev sm.jpg"/>
          <p:cNvPicPr/>
          <p:nvPr/>
        </p:nvPicPr>
        <p:blipFill>
          <a:blip r:embed="rId1"/>
          <a:stretch/>
        </p:blipFill>
        <p:spPr>
          <a:xfrm>
            <a:off x="1332000" y="2349360"/>
            <a:ext cx="5892840" cy="4175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7"/>
          <p:cNvSpPr/>
          <p:nvPr/>
        </p:nvSpPr>
        <p:spPr>
          <a:xfrm>
            <a:off x="4728960" y="26370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61616"/>
                </a:solidFill>
                <a:latin typeface="Arial"/>
              </a:rPr>
              <a:t>Александър Беле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179280" y="11592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лизо девет хиляди души от „стара България“  трябва да бъдат арестувани, за да бъдат откарани в “лагер на смъртта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ървите арестувани  и откарани в Пловдив евреи  са от  родния град на  Димитър Пешев -  Кюстенд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2" descr="13766b"/>
          <p:cNvPicPr/>
          <p:nvPr/>
        </p:nvPicPr>
        <p:blipFill>
          <a:blip r:embed="rId1"/>
          <a:stretch/>
        </p:blipFill>
        <p:spPr>
          <a:xfrm>
            <a:off x="179280" y="3284640"/>
            <a:ext cx="4484880" cy="338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евреи"/>
          <p:cNvPicPr/>
          <p:nvPr/>
        </p:nvPicPr>
        <p:blipFill>
          <a:blip r:embed="rId2"/>
          <a:stretch/>
        </p:blipFill>
        <p:spPr>
          <a:xfrm>
            <a:off x="4067280" y="2205000"/>
            <a:ext cx="4832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"/>
          <p:cNvSpPr/>
          <p:nvPr/>
        </p:nvSpPr>
        <p:spPr>
          <a:xfrm>
            <a:off x="539640" y="333360"/>
            <a:ext cx="813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  8  март  1943 г. делегация от четерима българи от Кюстендил пристига в София  и се срещат с подпредседателя на Народното събрание Димитър Пеш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ще на следващия ден, 9 март 1943 г., Димитър Пешев отива в Кюстендил, за да разбере лично  какво ста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Dimitar Peshev in kjustendil.jpg"/>
          <p:cNvPicPr/>
          <p:nvPr/>
        </p:nvPicPr>
        <p:blipFill>
          <a:blip r:embed="rId1"/>
          <a:stretch/>
        </p:blipFill>
        <p:spPr>
          <a:xfrm>
            <a:off x="1403280" y="2852640"/>
            <a:ext cx="6120000" cy="35845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1928520" y="2997360"/>
            <a:ext cx="33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61616"/>
                </a:solidFill>
                <a:latin typeface="Arial"/>
              </a:rPr>
              <a:t>Димитър Пешев в Кюстенди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09:36:23Z</dcterms:created>
  <dc:creator>Home</dc:creator>
  <dc:description/>
  <dc:language>en-US</dc:language>
  <cp:lastModifiedBy>Home</cp:lastModifiedBy>
  <dcterms:modified xsi:type="dcterms:W3CDTF">2012-11-08T09:03:14Z</dcterms:modified>
  <cp:revision>29</cp:revision>
  <dc:subject/>
  <dc:title>Димитър Пешев</dc:title>
</cp:coreProperties>
</file>